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E1D0-482F-4CBB-9984-46F2EE81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F27B-0D27-4B54-9A9E-C0D3366A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DEB8-AC19-4674-B3A1-CE6BD9F2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64B4-AEB6-4F66-8541-E4347B82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4797-F159-4FB9-81B2-366F7A9F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33D0-AC9A-47BB-ABA1-C257A70B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B965-9E13-459D-BD7C-AEE8627D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B63C-1181-4504-96E4-49FE5195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8B5B-AC9E-42AD-B93F-D35F0CEC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E9BD-4DB5-451F-ACDD-95C82AE9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1BD-DC05-4FF3-9530-C5F5F95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04BF-C9C3-43CB-A09D-D9F2DDE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9143-CD7F-45BA-B138-85FCCDB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0368-EAC6-4AA4-BEA4-F06A5B6B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4A23-1B53-48DD-A5DD-15173D75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0C40-7C3B-498E-BAA0-6AA410D0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53F2-4DC9-4D29-819A-B97293E9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5A35-B7D6-41A1-BF41-603734A3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97D3-96CB-4665-B9AB-F41C62EA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6111-3374-47AC-8899-432D9F5B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0DD0-0BF9-4488-A8CB-3E98B734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080E-97BE-41BF-9079-AF619FB4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6677-40A9-4113-BF31-CDE0D00B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5455-9D0D-4BAB-AB55-E748E88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1217-D808-48BF-BD57-B5CD7253A36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68F1-FD4C-4CD1-820B-013B5A486BF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80100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5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зкръсна силний Сп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тави гробен ров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, Кой умря за н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 е във век веков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Пленений се освободи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ъртта Той славно побе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9137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зкръснал е Господ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радостно сег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вижда славний плод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воите дела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Ходатай за грешните,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ях Той клетва претърп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зкръснал е Ису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не плачи, земя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идетелствува тру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ангел в небеса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 Смъртта е веч приятел благ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ад - обезоръжен вра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славно тържество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се съжив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Него - множеств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ии Негов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О, няма жило веч смъртта!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ада де е победа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37:46Z</dcterms:modified>
  <cp:revision>56</cp:revision>
  <dc:subject/>
  <dc:title>Slide 1</dc:title>
</cp:coreProperties>
</file>